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22E-ACBF-4AEE-88A1-5F2AB579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1C6-EF20-43A2-B0E9-5E1187C1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DB9-9C1F-440B-BF60-421213E3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55E-5B9C-4C0D-A28F-A8F9A12F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515-8E8D-4130-AB7B-B889EE62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ED4-A5A2-4DDD-BCEF-67E384B1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F2B-808F-41C6-B37D-F03604C5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0EA-A589-4BDB-B663-6E61E57C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0FE-9D27-42EA-8EC8-F7B27D0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E73-4D0C-4736-8EC9-87B8632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DA4-5811-43E3-8E32-8B78275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85C-DA7F-4D75-927E-9378984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46AA-7A21-4A94-896F-1D6A780504EB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IMO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ETAto PortOfCall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Dfrom PortOfCall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Arrival3Days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Arrival24hours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BvoyagetowardsPortOfCall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Notification InfoEUdepartures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 TypeOfHAZMATcargo (OCC=0,1)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BvoyagetowardsNextPor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UrlDetails (OCC=0,1) or ContactDetails (OCC=0,1),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,  CargoManifestContactDetails 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7:42:37Z</dcterms:modified>
  <cp:revision>358</cp:revision>
  <dc:subject/>
  <dc:title>Slide 1</dc:title>
</cp:coreProperties>
</file>